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D9C9B-3EF8-4A56-AB63-6F54B10F8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E8F40-57CF-4F3A-88BB-CDF6952B3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:To help educators design instructional activities, UBD promotes The WHERETO model, which encourages teachers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: Wher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students a sense of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re the work is head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ook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Get students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oked by presenting an intriguing issue, scenario, or puzz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:Equp 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ip students with required knowledge and skills and help them experience key idea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:Revisi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Encourage students to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visit and rethink—to monitor their own comprehension and improve their work product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: Evaluat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ke students an active part of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luation. Have them ask themselves "Am I getting this?"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: Tailore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Tailored (personalized) to the different needs, interests, and abilities of learners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: Organize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 Organized to maximize initial and sustained engagement as well       as effective learning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E12BE-E99F-48B7-8B91-15D0BC2B4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D3D-4543-4AA9-AD93-E8778DA6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820-338A-446D-90B6-EEE9FC75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0D97-71C2-4050-9D01-AAE718BA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231-AC88-457E-8918-F9AA82E8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201-4F83-4506-996E-A299B77F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EF9-146A-46DF-B2A5-12D831BA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700-D4A7-4053-93D0-2256DDB1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8AF-2126-4DCC-AB2D-84F8B01E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C87-0332-4FF9-AAD7-3B39D468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C9D-BF4C-45F8-84D1-1C759A00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C6C-2B66-4D21-A412-507F3744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FFD-8CDF-4A4D-9409-8807A007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100E-BB58-4055-8DF0-813B07CE0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dl4hcpss.files.wordpress.com/2011/01/udl-and-current-best-practices1.pn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scd.org/ASCD/pdf/journals/ed_lead/el_197901_dunn.pdf" TargetMode="External"/><Relationship Id="rId3" Type="http://schemas.openxmlformats.org/officeDocument/2006/relationships/hyperlink" Target="http://pwoessner.com/2008/12/15/21st-century-literacy-network-literacy/" TargetMode="External"/><Relationship Id="rId4" Type="http://schemas.openxmlformats.org/officeDocument/2006/relationships/hyperlink" Target="http://aim.cast.org/learn/historyarchive/backgroundpapers/differentiated_instruction_udl" TargetMode="External"/><Relationship Id="rId5" Type="http://schemas.openxmlformats.org/officeDocument/2006/relationships/hyperlink" Target="http://www.brainbasedteaching.com/" TargetMode="External"/><Relationship Id="rId6" Type="http://schemas.openxmlformats.org/officeDocument/2006/relationships/hyperlink" Target="http://www.odu.edu/educ/roverbau/Bloom/blooms_taxonomy.htm" TargetMode="External"/><Relationship Id="rId7" Type="http://schemas.openxmlformats.org/officeDocument/2006/relationships/hyperlink" Target="http://www.ascd.org/ASCD/pdf/journals/ed_lead/el_198711_sharan.pdf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coming A Skillful Teacher in the Carroll County Public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 2:  Plans instruction to achieve objectiv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1600200" y="541008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pril 19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Questions to think about.PNG"/>
          <p:cNvPicPr/>
          <p:nvPr/>
        </p:nvPicPr>
        <p:blipFill>
          <a:blip r:embed="rId2"/>
          <a:stretch/>
        </p:blipFill>
        <p:spPr>
          <a:xfrm>
            <a:off x="3276720" y="304920"/>
            <a:ext cx="2514600" cy="63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990720" y="1600200"/>
            <a:ext cx="3429000" cy="198108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419720" y="1600200"/>
            <a:ext cx="3429000" cy="198108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990720" y="3581280"/>
            <a:ext cx="3429000" cy="19814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419720" y="3581280"/>
            <a:ext cx="3429000" cy="19814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895480" y="2590920"/>
            <a:ext cx="2971800" cy="1752480"/>
          </a:xfrm>
          <a:prstGeom prst="rect">
            <a:avLst/>
          </a:prstGeom>
          <a:solidFill>
            <a:srgbClr val="3c8c9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 Callout 9"/>
          <p:cNvSpPr/>
          <p:nvPr/>
        </p:nvSpPr>
        <p:spPr>
          <a:xfrm rot="756600">
            <a:off x="5143320" y="177480"/>
            <a:ext cx="4038480" cy="2895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4b50"/>
                </a:solidFill>
                <a:latin typeface="Arial"/>
              </a:rPr>
              <a:t>Thinking about what you learned from our discussion and using the two bookmarks, revisit your commonalities and discuss what changes you could make to improve your lesson plan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Questions to think about.PNG"/>
          <p:cNvPicPr/>
          <p:nvPr/>
        </p:nvPicPr>
        <p:blipFill>
          <a:blip r:embed="rId2"/>
          <a:stretch/>
        </p:blipFill>
        <p:spPr>
          <a:xfrm rot="20551200">
            <a:off x="585720" y="150480"/>
            <a:ext cx="1639800" cy="4148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WHERETO Slide.png"/>
          <p:cNvPicPr/>
          <p:nvPr/>
        </p:nvPicPr>
        <p:blipFill>
          <a:blip r:embed="rId3"/>
          <a:stretch/>
        </p:blipFill>
        <p:spPr>
          <a:xfrm rot="1768800">
            <a:off x="5019480" y="3947760"/>
            <a:ext cx="3036600" cy="2311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j0084348[1]"/>
          <p:cNvPicPr/>
          <p:nvPr/>
        </p:nvPicPr>
        <p:blipFill>
          <a:blip r:embed="rId4"/>
          <a:stretch/>
        </p:blipFill>
        <p:spPr>
          <a:xfrm>
            <a:off x="5143680" y="1028880"/>
            <a:ext cx="657000" cy="69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Closure: Wiki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Punched Tape 5"/>
          <p:cNvSpPr/>
          <p:nvPr/>
        </p:nvSpPr>
        <p:spPr>
          <a:xfrm>
            <a:off x="1143000" y="2057400"/>
            <a:ext cx="7620120" cy="114300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at ways have you been able to improve lesson planning this wee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Punched Tape 7"/>
          <p:cNvSpPr/>
          <p:nvPr/>
        </p:nvSpPr>
        <p:spPr>
          <a:xfrm>
            <a:off x="1219320" y="3657600"/>
            <a:ext cx="7619760" cy="114300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uggestions do you have for making lesson planning more time e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380880" y="3886200"/>
            <a:ext cx="1484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C:\Users\Owner\AppData\Local\Microsoft\Windows\Temporary Internet Files\Content.IE5\0XPGRQHN\MC900133985[1].wmf"/>
          <p:cNvPicPr/>
          <p:nvPr/>
        </p:nvPicPr>
        <p:blipFill>
          <a:blip r:embed="rId2"/>
          <a:stretch/>
        </p:blipFill>
        <p:spPr>
          <a:xfrm>
            <a:off x="228600" y="4952880"/>
            <a:ext cx="2703600" cy="1679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j0084348[1]"/>
          <p:cNvPicPr/>
          <p:nvPr/>
        </p:nvPicPr>
        <p:blipFill>
          <a:blip r:embed="rId3"/>
          <a:stretch/>
        </p:blipFill>
        <p:spPr>
          <a:xfrm>
            <a:off x="7315200" y="5334120"/>
            <a:ext cx="961920" cy="101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571640" y="91080"/>
            <a:ext cx="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600200" y="1981080"/>
          <a:ext cx="6095880" cy="4419720"/>
        </p:xfrm>
        <a:graphic>
          <a:graphicData uri="http://schemas.openxmlformats.org/drawingml/2006/table">
            <a:tbl>
              <a:tblPr/>
              <a:tblGrid>
                <a:gridCol w="3959280"/>
                <a:gridCol w="266760"/>
                <a:gridCol w="264960"/>
                <a:gridCol w="268200"/>
                <a:gridCol w="265320"/>
                <a:gridCol w="264960"/>
                <a:gridCol w="268200"/>
                <a:gridCol w="265320"/>
                <a:gridCol w="272880"/>
              </a:tblGrid>
              <a:tr h="29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2:  Plans instruction to achieve objectiv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ess students’ readiness – Is the lesson appropriat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ok the students inter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nect to prior knowled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nect to real world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s a variety of teaching strate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quences the lesson in an organized man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ned content matches obj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iders how technology can support the less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s appropriate materi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ares appropriate materi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s formal assessment as nee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s informal assessment – How will you know students met the intended objectiv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 gridSpan="9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ecdotal Note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TextBox 10"/>
          <p:cNvSpPr/>
          <p:nvPr/>
        </p:nvSpPr>
        <p:spPr>
          <a:xfrm>
            <a:off x="1523880" y="380880"/>
            <a:ext cx="6096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rroll County Public Sch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partment of Curriculum, Instruction &amp; Staff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aching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acher Induction Program:  Behavioral Descrip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4649"/>
                </a:solidFill>
                <a:latin typeface="Arial"/>
              </a:rPr>
              <a:t>Lesson Elements Place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990720" y="1600200"/>
            <a:ext cx="3429000" cy="198108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419720" y="1600200"/>
            <a:ext cx="3429000" cy="198108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990720" y="3581280"/>
            <a:ext cx="3429000" cy="19814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419720" y="3581280"/>
            <a:ext cx="3429000" cy="19814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4649"/>
                </a:solidFill>
                <a:latin typeface="Arial"/>
              </a:rPr>
              <a:t>Lesson Elements Place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990720" y="1600200"/>
            <a:ext cx="3429000" cy="198108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419720" y="1600200"/>
            <a:ext cx="3429000" cy="198108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990720" y="3581280"/>
            <a:ext cx="3429000" cy="19814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419720" y="3581280"/>
            <a:ext cx="3429000" cy="19814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n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895480" y="2590920"/>
            <a:ext cx="2971800" cy="1752480"/>
          </a:xfrm>
          <a:prstGeom prst="rect">
            <a:avLst/>
          </a:prstGeom>
          <a:solidFill>
            <a:srgbClr val="3c8c9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23880" y="533520"/>
          <a:ext cx="6096240" cy="1809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74680">
                <a:tc gridSpan="2"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Identify Desired Results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hat should students know and/or be able to do as a result of this lesson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g Idea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t Essential Questions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How do we lesson plan to achieve stated objectives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gridSpan="2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arning Objective: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Participants will reflect upon and evaluate the effectiveness of their lesson planning to meet learning needs based on standard  2 of the CCPS observation and evaluation tool: </a:t>
                      </a:r>
                      <a:r>
                        <a:rPr b="1" i="1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Plans instruction to achieve objectiv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240">
                <a:tc gridSpan="2"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Assessing Student Learning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523880" y="2514600"/>
          <a:ext cx="6096240" cy="29145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5223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hese assessments can be viewed as formative or summative.  For a formative assessment, use the information to adjust instruction.  For a summative assessment, it is used simply as a grad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Formative:    Observation of participants, Wiki Respon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Summative:   Reflective Ros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  Lesson E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0640"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arm-up/Pre-assessment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Placemat Activ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eling/Direct Instruction (I do)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Power Poi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ided Practice (We do):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Turn and share with a partner </a:t>
                      </a:r>
                      <a:r>
                        <a:rPr b="1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new thing you learned and </a:t>
                      </a:r>
                      <a:r>
                        <a:rPr b="1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 thing you want to know more abou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dependent Practice (You do):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Placemat addi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ssessment: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Participant responses; Reflective Rosie on Assessment, Wiki ques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osure: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Symbol" charset="2"/>
                        <a:buChar char="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Planning Checklist Evalu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61920" rIns="6192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eriod" startAt="4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flec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7680">
                <a:tc>
                  <a:txBody>
                    <a:bodyPr lIns="61920" rIns="61920" tIns="0" bIns="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udent Learning Expectations: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d students achieve the stated objective?  How do you know?  If not, why not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1920" rIns="61920" tIns="0" bIns="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mplementation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ow effective was the lesson?   What  went really well?   What would you differently?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Rectangle 1"/>
          <p:cNvSpPr/>
          <p:nvPr/>
        </p:nvSpPr>
        <p:spPr>
          <a:xfrm>
            <a:off x="4571640" y="91080"/>
            <a:ext cx="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Way of Looking At Bes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http://udl4hcpss.files.wordpress.com/2011/01/udl-and-current-best-practices1.png?w=400&amp;h=30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1828800"/>
            <a:ext cx="595476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1219320"/>
            <a:ext cx="21337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a scale of 1 to 5, rate your comfort level with each ter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-never heard the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-could teach everyone in our class about the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uzzle3">
            <a:hlinkClick r:id="rId2"/>
          </p:cNvPr>
          <p:cNvSpPr/>
          <p:nvPr/>
        </p:nvSpPr>
        <p:spPr>
          <a:xfrm>
            <a:off x="2871720" y="39600"/>
            <a:ext cx="1992240" cy="277812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uzzle2">
            <a:hlinkClick r:id="rId3"/>
          </p:cNvPr>
          <p:cNvSpPr/>
          <p:nvPr/>
        </p:nvSpPr>
        <p:spPr>
          <a:xfrm>
            <a:off x="2270160" y="2022480"/>
            <a:ext cx="3178080" cy="26193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Cen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teracy'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uzzle4">
            <a:hlinkClick r:id="rId4"/>
          </p:cNvPr>
          <p:cNvSpPr/>
          <p:nvPr/>
        </p:nvSpPr>
        <p:spPr>
          <a:xfrm>
            <a:off x="1068480" y="2022480"/>
            <a:ext cx="1915920" cy="3235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ifferen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uzzle1">
            <a:hlinkClick r:id="rId5"/>
          </p:cNvPr>
          <p:cNvSpPr/>
          <p:nvPr/>
        </p:nvSpPr>
        <p:spPr>
          <a:xfrm>
            <a:off x="380880" y="876240"/>
            <a:ext cx="3219480" cy="192744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Brain   Based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uzzle3">
            <a:hlinkClick r:id="rId6"/>
          </p:cNvPr>
          <p:cNvSpPr/>
          <p:nvPr/>
        </p:nvSpPr>
        <p:spPr>
          <a:xfrm>
            <a:off x="6566040" y="39600"/>
            <a:ext cx="1990440" cy="277812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ew Bloo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uzzle2"/>
          <p:cNvSpPr/>
          <p:nvPr/>
        </p:nvSpPr>
        <p:spPr>
          <a:xfrm>
            <a:off x="5964120" y="2050920"/>
            <a:ext cx="3179880" cy="25304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Backw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uzzle4">
            <a:hlinkClick r:id="rId7"/>
          </p:cNvPr>
          <p:cNvSpPr/>
          <p:nvPr/>
        </p:nvSpPr>
        <p:spPr>
          <a:xfrm>
            <a:off x="4735440" y="2022480"/>
            <a:ext cx="1916280" cy="3235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uzzle1"/>
          <p:cNvSpPr/>
          <p:nvPr/>
        </p:nvSpPr>
        <p:spPr>
          <a:xfrm>
            <a:off x="4075200" y="888840"/>
            <a:ext cx="3217680" cy="19288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istive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uzzle3"/>
          <p:cNvSpPr/>
          <p:nvPr/>
        </p:nvSpPr>
        <p:spPr>
          <a:xfrm>
            <a:off x="6550200" y="3611520"/>
            <a:ext cx="1990440" cy="2776680"/>
          </a:xfrm>
          <a:custGeom>
            <a:avLst/>
            <a:gdLst>
              <a:gd name="textAreaLeft" fmla="*/ 209160 w 1990440"/>
              <a:gd name="textAreaRight" fmla="*/ 1764720 w 1990440"/>
              <a:gd name="textAreaTop" fmla="*/ 992160 h 2776680"/>
              <a:gd name="textAreaBottom" fmla="*/ 2601720 h 27766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uzzle1"/>
          <p:cNvSpPr/>
          <p:nvPr/>
        </p:nvSpPr>
        <p:spPr>
          <a:xfrm>
            <a:off x="4075200" y="4494240"/>
            <a:ext cx="3217680" cy="19270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derstanding by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uzzle3"/>
          <p:cNvSpPr/>
          <p:nvPr/>
        </p:nvSpPr>
        <p:spPr>
          <a:xfrm>
            <a:off x="2871720" y="3699000"/>
            <a:ext cx="1992240" cy="277812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eb 2.0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uzzle1"/>
          <p:cNvSpPr/>
          <p:nvPr/>
        </p:nvSpPr>
        <p:spPr>
          <a:xfrm>
            <a:off x="380880" y="4494240"/>
            <a:ext cx="3219480" cy="19270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ult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llig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762120" y="762120"/>
          <a:ext cx="6754680" cy="4860720"/>
        </p:xfrm>
        <a:graphic>
          <a:graphicData uri="http://schemas.openxmlformats.org/drawingml/2006/table">
            <a:tbl>
              <a:tblPr/>
              <a:tblGrid>
                <a:gridCol w="6754680"/>
              </a:tblGrid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  Lesson El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3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arm-up/Pre-assessment;  (W &amp; 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eling/Direct Instruction (I do);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ided Practice (We do)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E &amp; 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dependent Practice (You do)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R &amp;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ssessment:  (E, 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romanU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osure: (E &amp; 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AutoNum type="arabicPeriod" startAt="4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fl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31960">
                <a:tc>
                  <a:txBody>
                    <a:bodyPr lIns="68760" rIns="68760" tIns="0" bIns="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udent Learning Expectations: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d students achieve the stated objective?  How do you know?  If not, why no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68760" rIns="68760" tIns="0" bIns="0" anchor="t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mplementat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ow effective was the lesson?   What  went really well?   What would you differently?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Box 5"/>
          <p:cNvSpPr/>
          <p:nvPr/>
        </p:nvSpPr>
        <p:spPr>
          <a:xfrm>
            <a:off x="5715000" y="838080"/>
            <a:ext cx="259092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you complete thi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Box 39" descr=""/>
          <p:cNvPicPr/>
          <p:nvPr/>
        </p:nvPicPr>
        <p:blipFill>
          <a:blip r:embed="rId2"/>
          <a:stretch/>
        </p:blipFill>
        <p:spPr>
          <a:xfrm>
            <a:off x="500040" y="738360"/>
            <a:ext cx="2401920" cy="3614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0" descr="C:\Users\Owner\AppData\Local\Microsoft\Windows\Temporary Internet Files\Content.IE5\0XPGRQHN\MC900133985[1].wmf"/>
          <p:cNvPicPr/>
          <p:nvPr/>
        </p:nvPicPr>
        <p:blipFill>
          <a:blip r:embed="rId3"/>
          <a:stretch/>
        </p:blipFill>
        <p:spPr>
          <a:xfrm>
            <a:off x="380880" y="304920"/>
            <a:ext cx="4389480" cy="5410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40"/>
          <p:cNvSpPr/>
          <p:nvPr/>
        </p:nvSpPr>
        <p:spPr>
          <a:xfrm>
            <a:off x="4892760" y="304920"/>
            <a:ext cx="379404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 students a sense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ork is hea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Get stud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OK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udents with required knowledge and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S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rethink: to monitor their own comprehension and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Encorage students t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ir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ILO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meet student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E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ximize initial and sustained engagement as well as effective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07:30Z</dcterms:created>
  <dc:creator>ccps</dc:creator>
  <dc:description/>
  <dc:language>en-US</dc:language>
  <cp:lastModifiedBy>rcmarsd</cp:lastModifiedBy>
  <dcterms:modified xsi:type="dcterms:W3CDTF">2011-04-19T15:20:17Z</dcterms:modified>
  <cp:revision>42</cp:revision>
  <dc:subject/>
  <dc:title>Slide 1</dc:title>
</cp:coreProperties>
</file>